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wmf" ContentType="image/x-wmf"/>
  <Override PartName="/ppt/media/image9.wmf" ContentType="image/x-wmf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43ED-34CE-4AD7-A94A-0EE65B260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785E-618D-4CE3-851E-A8A1821A2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E33B-0C78-483C-942A-D4BA9D98C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A9F1-48D6-477A-9A43-EF60A785C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5F4EC9-2DFA-4452-9F40-8C5DDE7B2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FBE74F-5758-4626-A7A9-DB090A10E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F44DFF-825D-46EC-A684-02E193406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342F72-F663-4314-82EE-B3EC179FD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86A17B-A623-46D2-B9FE-24E30B563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A03CA7-2D44-4F74-AC27-322F19BFA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F94BED-8258-4D12-9C5E-812379A4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8341-82FF-4837-87DD-52410204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021481-DC04-4990-B49C-B8C69BE1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5C558F-08B0-479E-890E-029548AE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CC07EC-5D35-4627-9A50-08BF2C486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548C22-F94C-42D3-B837-D245BAECC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E20712-17ED-4FA9-AFBC-D9934CF71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41A8-ED11-46C1-9C7E-E072BD8EA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0DCC-7A66-47CB-824A-278F0C414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B20C-5EB2-4326-9108-CB24E56FE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377E-91FF-45EF-B59E-6385657E8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488D-1F85-4E04-86B8-09108826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F14B-AAB0-482C-9220-2F079C18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BB9C-522B-40FE-A89C-EEE1E4EC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46E39-F664-4DF9-852E-B520F87E85CC}" type="slidenum">
              <a:rPr b="0" lang="en-A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4471B-BFD1-4E31-9D1C-890E1EE82BF6}" type="slidenum">
              <a:rPr b="0" lang="en-A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http://delivery.kundelink.dk/kunder/efficiensea/index.php" TargetMode="External"/><Relationship Id="rId3" Type="http://schemas.openxmlformats.org/officeDocument/2006/relationships/image" Target="../media/image9.wmf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649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NM 19 – Rapporteur Report M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68360" y="1484280"/>
            <a:ext cx="820728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Development of e-Navigation within AtoN Authorities (M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852480" y="5729760"/>
            <a:ext cx="748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marL="762120" indent="-762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</a:rPr>
              <a:t>Gerry Brine - Manager Aids to Navigation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762120" indent="-762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</a:rPr>
              <a:t>Australian Maritime Safety Authority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6" name="Group 5"/>
          <p:cNvGrpSpPr/>
          <p:nvPr/>
        </p:nvGrpSpPr>
        <p:grpSpPr>
          <a:xfrm>
            <a:off x="1619280" y="2708280"/>
            <a:ext cx="2376360" cy="1728360"/>
            <a:chOff x="1619280" y="2708280"/>
            <a:chExt cx="2376360" cy="1728360"/>
          </a:xfrm>
        </p:grpSpPr>
        <p:sp>
          <p:nvSpPr>
            <p:cNvPr id="87" name="Text Box 6"/>
            <p:cNvSpPr/>
            <p:nvPr/>
          </p:nvSpPr>
          <p:spPr>
            <a:xfrm>
              <a:off x="1619280" y="3776040"/>
              <a:ext cx="237636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aphicFrame>
          <p:nvGraphicFramePr>
            <p:cNvPr id="88" name="Object 7"/>
            <p:cNvGraphicFramePr/>
            <p:nvPr/>
          </p:nvGraphicFramePr>
          <p:xfrm>
            <a:off x="1909440" y="2708280"/>
            <a:ext cx="1387080" cy="1135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9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09440" y="2708280"/>
                      <a:ext cx="1387080" cy="113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0" name="Rectangle 8"/>
          <p:cNvSpPr/>
          <p:nvPr/>
        </p:nvSpPr>
        <p:spPr>
          <a:xfrm>
            <a:off x="4356000" y="2708280"/>
            <a:ext cx="747720" cy="2008080"/>
          </a:xfrm>
          <a:prstGeom prst="rect">
            <a:avLst/>
          </a:prstGeom>
          <a:gradFill rotWithShape="0">
            <a:gsLst>
              <a:gs pos="0">
                <a:srgbClr val="aa3039"/>
              </a:gs>
              <a:gs pos="100000">
                <a:srgbClr val="f94320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1" name="Object 9"/>
          <p:cNvGraphicFramePr/>
          <p:nvPr/>
        </p:nvGraphicFramePr>
        <p:xfrm>
          <a:off x="3995640" y="2924280"/>
          <a:ext cx="1352520" cy="1197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5640" y="2924280"/>
                    <a:ext cx="135252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Oval 10"/>
          <p:cNvSpPr/>
          <p:nvPr/>
        </p:nvSpPr>
        <p:spPr>
          <a:xfrm>
            <a:off x="6084720" y="2708280"/>
            <a:ext cx="1989360" cy="19890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4" name="Object 11"/>
          <p:cNvGraphicFramePr/>
          <p:nvPr/>
        </p:nvGraphicFramePr>
        <p:xfrm>
          <a:off x="6300720" y="2997360"/>
          <a:ext cx="1455840" cy="1641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5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300720" y="2997360"/>
                    <a:ext cx="1455840" cy="16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Text Box 12"/>
          <p:cNvSpPr/>
          <p:nvPr/>
        </p:nvSpPr>
        <p:spPr>
          <a:xfrm>
            <a:off x="1476360" y="4365720"/>
            <a:ext cx="21589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armonized collection, integration, exchange, presentation and analysis of maritime information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0000"/>
                </a:solidFill>
                <a:latin typeface="Arial"/>
              </a:rPr>
              <a:t>onboard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6084720" y="4797360"/>
            <a:ext cx="216864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armonized collection, integration, exchange, presentation and analysis of maritime information </a:t>
            </a:r>
            <a:r>
              <a:rPr b="1" i="1" lang="en-US" sz="1700" spc="-1" strike="noStrike">
                <a:solidFill>
                  <a:srgbClr val="ff0000"/>
                </a:solidFill>
                <a:latin typeface="Arial"/>
              </a:rPr>
              <a:t>ashore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0" y="6461280"/>
            <a:ext cx="849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ffffff"/>
                </a:solidFill>
                <a:latin typeface="Tahoma"/>
              </a:rPr>
              <a:t>Source: IALA e-Nav Committee Information Paper on the draft</a:t>
            </a:r>
            <a:br>
              <a:rPr sz="800"/>
            </a:br>
            <a:r>
              <a:rPr b="0" lang="en-AU" sz="800" spc="-1" strike="noStrike">
                <a:solidFill>
                  <a:srgbClr val="ffffff"/>
                </a:solidFill>
                <a:latin typeface="Tahoma"/>
              </a:rPr>
              <a:t>IALA Recommendation e-NAV 140 on the e-Navigation Architecture – the shore-based perspective (Ed 2)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7697880" cy="72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marL="90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Tahoma"/>
              </a:rPr>
              <a:t>Relevant e-Nav 12 Outco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68360" y="1341000"/>
            <a:ext cx="84247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-450720">
              <a:spcBef>
                <a:spcPts val="15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gressed development of “platform suite (or ‘seven pillars of e-navigation)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193760" indent="-45072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web-based tool to assist in promoting the e-navigation to stakehold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spcBef>
                <a:spcPts val="15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gressed work on the structure of Maritime Services Portfoli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spcBef>
                <a:spcPts val="15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formation paper on the architecture for the provision of e-navigation services as seen from asho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spcBef>
                <a:spcPts val="15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nalised procedures for the management of the IALA Domain under the IHO GI (S-100) Regist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99640" y="476280"/>
            <a:ext cx="7697880" cy="907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marL="90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Tahoma"/>
              </a:rPr>
              <a:t>e-Nav developments in IALA member countries - Cana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539280" y="1699920"/>
            <a:ext cx="842508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-450720">
              <a:spcBef>
                <a:spcPts val="17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-Navigation Vision and Strategy approve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193760" indent="-45072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Following client consultations, user-need studies and completion of a required service matrix which started in 2009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spcBef>
                <a:spcPts val="17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y end 2012 expect to have a National e-Navigation websi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193760" indent="-45072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this site will eventually provide an information and services portal for clients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79120" y="115920"/>
            <a:ext cx="7699320" cy="907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marL="90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Tahoma"/>
              </a:rPr>
              <a:t>e-Nav developments in IALA member countries – Canada (cont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3851280" y="2657160"/>
            <a:ext cx="4897440" cy="326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-450720">
              <a:spcBef>
                <a:spcPts val="15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vide accurate, timely, up to date and shared information to mariners and shore authori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spcBef>
                <a:spcPts val="15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eater efficiency and security in maritime transpor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spcBef>
                <a:spcPts val="15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d protection of the marine environ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539640" y="2471760"/>
            <a:ext cx="2808360" cy="36320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>
            <a:off x="900000" y="1197000"/>
            <a:ext cx="75088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99640" y="476280"/>
            <a:ext cx="7697880" cy="907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marL="90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Tahoma"/>
              </a:rPr>
              <a:t>e-Nav developments in IALA member countries - Cana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39280" y="1699920"/>
            <a:ext cx="842508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-450720">
              <a:spcBef>
                <a:spcPts val="17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st beds are one of the keys to progressing implementation of e-navig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spcBef>
                <a:spcPts val="17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the St Lawrence and Fraser Rivers electronic transfer of bathymetric, wave heights and  current data and maritime safety information is occurr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193760" indent="-45072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Information delivery to pilots via Portable Pilot Uni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19376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7699320" cy="907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marL="90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Tahoma"/>
              </a:rPr>
              <a:t>e-Nav developments in IALA member countries - U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842472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-450720">
              <a:spcBef>
                <a:spcPts val="15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neral Lighthouse Authorities of the UK and Ireland (GLA) ACCSEAS proje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spcBef>
                <a:spcPts val="15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obust PNT in support of e-Navigatio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193760" indent="-45072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Implementation of Differential eLoran reference stations continues with Dover being completed and 5 more stations on the East Coast of the UK plann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spcBef>
                <a:spcPts val="15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adar positioning trials plan has been completed and provided to radar and racon manufacturers for com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19376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7626600" cy="64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marL="90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Tahoma"/>
              </a:rPr>
              <a:t>e-Nav developments in Austral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-450720">
              <a:lnSpc>
                <a:spcPct val="90000"/>
              </a:lnSpc>
              <a:spcBef>
                <a:spcPts val="17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Usability workshop to be held in March 20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IMO NAV 58 has noted that </a:t>
            </a:r>
            <a:r>
              <a:rPr b="0" i="1" lang="ja-JP" sz="2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“</a:t>
            </a:r>
            <a:r>
              <a:rPr b="0" i="1" lang="en-AU" sz="2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…interested parties were considering organizing or requesting the organization of a workshop to progress the discussions on usability evaluation of navigational equipment, software quality assurance and human element issues</a:t>
            </a:r>
            <a:r>
              <a:rPr b="0" i="1" lang="ja-JP" sz="2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”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(NAV 58 report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90000"/>
              </a:lnSpc>
              <a:spcBef>
                <a:spcPts val="17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E-Navigation implementation plan for Australia being develop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90000"/>
              </a:lnSpc>
              <a:spcBef>
                <a:spcPts val="15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AMSA trials (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real, synthetic and virtual AtoN on buoys and fixed structures) continu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36036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Evaluation report will be available in early 2013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8" descr=""/>
          <p:cNvPicPr/>
          <p:nvPr/>
        </p:nvPicPr>
        <p:blipFill>
          <a:blip r:embed="rId1"/>
          <a:stretch/>
        </p:blipFill>
        <p:spPr>
          <a:xfrm>
            <a:off x="6203880" y="1844640"/>
            <a:ext cx="636480" cy="6476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0"/>
          <p:cNvSpPr/>
          <p:nvPr/>
        </p:nvSpPr>
        <p:spPr>
          <a:xfrm>
            <a:off x="426960" y="48060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marL="450720" indent="-4507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Tahoma"/>
              </a:rPr>
              <a:t>Upcoming events featuring e-Navigation</a:t>
            </a:r>
            <a:r>
              <a:rPr b="0" lang="ja-JP" sz="3200" spc="-1" strike="noStrike">
                <a:solidFill>
                  <a:srgbClr val="ffff00"/>
                </a:solidFill>
                <a:latin typeface="Tahoma"/>
              </a:rPr>
              <a:t>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1116000" y="4942080"/>
            <a:ext cx="7343640" cy="11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marL="762120" indent="-76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762120" indent="-76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Tahoma"/>
              </a:rPr>
              <a:t>Note: Jan 2012 Efficiensea Conference report can be found at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762120" indent="-7621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://delivery.kundelink.dk/kunder/efficiensea/index.php</a:t>
            </a: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20" descr=""/>
          <p:cNvPicPr/>
          <p:nvPr/>
        </p:nvPicPr>
        <p:blipFill>
          <a:blip r:embed="rId3"/>
          <a:stretch/>
        </p:blipFill>
        <p:spPr>
          <a:xfrm>
            <a:off x="6840360" y="1844640"/>
            <a:ext cx="1873440" cy="644400"/>
          </a:xfrm>
          <a:prstGeom prst="rect">
            <a:avLst/>
          </a:prstGeom>
          <a:ln w="0">
            <a:noFill/>
          </a:ln>
        </p:spPr>
      </p:pic>
      <p:sp>
        <p:nvSpPr>
          <p:cNvPr id="117" name="TextBox 1"/>
          <p:cNvSpPr/>
          <p:nvPr/>
        </p:nvSpPr>
        <p:spPr>
          <a:xfrm>
            <a:off x="539640" y="1338120"/>
            <a:ext cx="511344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fficiensea “e-Navigation Underway” Conference Jan 201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ability of Navigation Equipment.  Workshop 5-6 March 2013 in Kingscliff, NSW, Australi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SA Navigation Symposium, Darwin 29-31 July 201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23" descr="http://www.e-navigation.net/uploads/images/Pearl.JPG"/>
          <p:cNvPicPr/>
          <p:nvPr/>
        </p:nvPicPr>
        <p:blipFill>
          <a:blip r:embed="rId4"/>
          <a:stretch/>
        </p:blipFill>
        <p:spPr>
          <a:xfrm>
            <a:off x="6203880" y="2489040"/>
            <a:ext cx="250344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5640" y="1916280"/>
            <a:ext cx="7843680" cy="1511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Tahoma"/>
              </a:rPr>
              <a:t>Thank you for your attention</a:t>
            </a:r>
            <a:br>
              <a:rPr sz="2800"/>
            </a:br>
            <a:br>
              <a:rPr sz="2800"/>
            </a:br>
            <a:r>
              <a:rPr b="1" lang="en-AU" sz="2800" spc="-1" strike="noStrike">
                <a:solidFill>
                  <a:srgbClr val="ffff00"/>
                </a:solidFill>
                <a:latin typeface="Tahoma"/>
              </a:rPr>
              <a:t>Any question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755280" y="2421000"/>
            <a:ext cx="7993080" cy="41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0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05:05:19Z</dcterms:created>
  <dc:creator>gpb</dc:creator>
  <dc:description/>
  <dc:language>en-US</dc:language>
  <cp:lastModifiedBy/>
  <dcterms:modified xsi:type="dcterms:W3CDTF">2012-11-12T06:04:52Z</dcterms:modified>
  <cp:revision>134</cp:revision>
  <dc:subject/>
  <dc:title>Slide 1</dc:title>
</cp:coreProperties>
</file>